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B991-5628-43C4-B017-84954FBED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8BE8-A2B0-401D-BFA9-6B03D1E43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15FA-4F0D-4493-B158-C5B757CBA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7525-6741-47D0-8BD3-D9B694D18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52E8FD-3C3D-49FD-8849-B82E364C2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205BF2-B43B-4384-BC2C-E4A2EFB0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85C487-BC30-450D-B28B-2EBDF536E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159B2E-7076-4534-863D-CF79F5C36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CF5813-19ED-458F-82B9-578AFF475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3626BF-4EC7-4C5E-8E96-0524DDFDD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B38FF3-49F5-4177-ADEF-D8D516C8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E724-1B3D-4B28-85A7-C20D82E41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49F65E-5F73-4008-BA87-209B6ECC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529418-F5D1-4E67-8D8F-05B7B1F6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412265-7D71-439A-89D6-F4198A28C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078D57-41FE-4989-A0E6-0CD5B7F8B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9A5D63-7C99-4D49-A520-E0BAA252E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28C9-0D4E-455D-B28E-8DC14A189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6217-EAEC-4153-AAC7-E0591375E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6793-2D3A-42DB-A5A7-2507FC508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5945-B0DB-4277-96C3-F1BD18ADB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7D4D-0E47-426E-BB19-E90D80F8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76FE-FA58-4785-84DF-7695D847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20EB-40E3-43CB-93E0-055EE903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D20F4-7CD3-4717-A97E-5E32F77A58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17B8E-4BCB-4B04-9621-D193E1F924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universalgiving.org/photo/image.do%3Fid%3D695&amp;imgrefurl=https://www.universalgiving.org/receiverPromote.do%3Fid%3D1853&amp;h=499&amp;w=383&amp;sz=58&amp;hl=en&amp;start=2&amp;tbnid=lOE4lLZCIMs7_M:&amp;tbnh=130&amp;tbnw=100&amp;prev=/images%3Fq%3Dchimpanzees%26gbv%3D2%26hl%3Den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duiops.net/seresvivos/galeria/chimpances/Animals%2520Chimpanzees_Hear%2520No%2520Evil,%2520See%2520No%2520Evil,%2520Speak%2520No%2520Evil.jpg&amp;imgrefurl=http://ijustlovemonkeys.blogspot.com/&amp;h=1200&amp;w=1600&amp;sz=250&amp;hl=en&amp;start=8&amp;tbnid=UVhi83VJurT9VM:&amp;tbnh=113&amp;tbnw=150&amp;prev=/images%3Fq%3Dchimpanzees%26gbv%3D2%26hl%3Den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cache.viewimages.com/xc/71437927.jpg%3Fv%3D1%26c%3DViewImages%26k%3D2%26d%3D17A4AD9FDB9CF193CC300C081D9F4700C5AC813B118FA374B8E006A165F60F97A55A1E4F32AD3138&amp;imgrefurl=http://www.viewimages.com/Search.aspx%3Fmid%3D71437927%26epmid%3D1%26partner%3DGoogle&amp;h=594&amp;w=412&amp;sz=32&amp;hl=en&amp;start=4&amp;tbnid=Ncx-wDEiscbK-M:&amp;tbnh=135&amp;tbnw=94&amp;prev=/images%3Fq%3Dchimpanzees%26gbv%3D2%26hl%3Den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cache.viewimages.com/xc/71437927.jpg%3Fv%3D1%26c%3DViewImages%26k%3D2%26d%3D17A4AD9FDB9CF193CC300C081D9F4700C5AC813B118FA374B8E006A165F60F97A55A1E4F32AD3138&amp;imgrefurl=http://www.viewimages.com/Search.aspx%3Fmid%3D71437927%26epmid%3D1%26partner%3DGoogle&amp;h=594&amp;w=412&amp;sz=32&amp;hl=en&amp;start=4&amp;tbnid=Ncx-wDEiscbK-M:&amp;tbnh=135&amp;tbnw=94&amp;prev=/images%3Fq%3Dchimpanzees%26gbv%3D2%26hl%3Den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sitemaker.umich.edu/mitani/files/males_groom.jpg&amp;imgrefurl=http://sitemaker.umich.edu/mitani/research&amp;h=1920&amp;w=2560&amp;sz=2128&amp;hl=en&amp;start=7&amp;tbnid=Nz3K2C9kEsvBSM:&amp;tbnh=113&amp;tbnw=150&amp;prev=/images%3Fq%3Dchimpanzees%26gbv%3D2%26hl%3Den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animallaw.info/articles/art_img/Chimp_by_Anna_Parkinson3.jpg&amp;imgrefurl=http://www.animallaw.info/articles/dduschimplaws.htm&amp;h=307&amp;w=350&amp;sz=23&amp;hl=en&amp;start=1&amp;tbnid=JhkA70XRWz45GM:&amp;tbnh=105&amp;tbnw=120&amp;prev=/images%3Fq%3Dchimpanzees%26gbv%3D2%26hl%3Den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himpanze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: ETHAN Parde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352680" y="4876920"/>
            <a:ext cx="19814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Do you like chimpanzees?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You can learn about them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by reading this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00400" y="2890800"/>
            <a:ext cx="2819520" cy="24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274680"/>
            <a:ext cx="899172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himpanzees have a pinkish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rown face. Chimpanzees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ack a tail. Chimpanzee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re 4 feet tall standing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up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24160" y="2786040"/>
            <a:ext cx="89568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himpanzees defend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mselves by climbing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up trees and hiding in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m. They  climb up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rees so animals can’t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ee them. They also climb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up trees so animal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an’t reach them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609120"/>
            <a:ext cx="8686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010280" y="4648320"/>
            <a:ext cx="21337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himpanzees live in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mmunites. They also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ive in tropical rainforests.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y even live in secondary-growth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orests, woodlands, bamboo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orests, swamps, and savannah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276720" y="4267080"/>
            <a:ext cx="27432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055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himps eat a lot of stuff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ere they live. Chimp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at fruits, nuts, seeds,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nd insects.  Chimp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ometimes even eat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eat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-36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505320" y="3962520"/>
            <a:ext cx="25146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Young chimps stay with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ir mothers for up to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0 years. 100,000 to 200,000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himps remain in the wild.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himpanzees are endangered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 we better take care of th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arth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6858000"/>
            <a:ext cx="82296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10080" y="4343400"/>
            <a:ext cx="28958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 hope you like and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earned more about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chimpanzees now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666880" y="2666880"/>
            <a:ext cx="36576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2:47:23Z</dcterms:created>
  <dc:creator>kkaiser</dc:creator>
  <dc:description/>
  <dc:language>en-US</dc:language>
  <cp:lastModifiedBy>JATKINSO</cp:lastModifiedBy>
  <dcterms:modified xsi:type="dcterms:W3CDTF">2008-02-22T17:27:14Z</dcterms:modified>
  <cp:revision>5</cp:revision>
  <dc:subject/>
  <dc:title>Animal Name</dc:title>
</cp:coreProperties>
</file>